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8118-DDC5-4CD8-AFC0-4545E2105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65C2-9EB6-46D0-94E3-1C52D2F99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AAD8-2086-4D8A-9CC9-64D60F503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F22F-0EE9-4DD9-92DD-B5E17D708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FD705-8C78-46A6-9E97-079609F50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DF966-4BE8-4C30-A27F-034241291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FEFB8-7ABA-4C81-B7BC-26FC3F2D3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2D6E0-D1C8-4C4C-A613-8628D374E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A5864-1245-4AF7-8CD6-28077332B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A6336-C592-435D-9641-2AE0380B0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1E638-25D3-4A63-B456-4FB5CAF4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B1AE-8ECD-419E-9A62-362E281BA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4D0BF-958D-45E5-AB06-01FC9ED5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760C2-1BDC-43F4-9D23-CCEE2080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6AB53-828C-4C71-AE8E-F3F86E25F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C4673-7ABF-4ADC-816F-8DF75924E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496F4-2301-460B-B77E-77F7CF1B3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E2DE-C5DD-4D03-A8A0-D927A5885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4F7D-AFF7-4978-A2CD-AAD851959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CEC1-43A9-4557-BDEA-10C690B27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6C56-BA2B-4F02-8B24-9301B319C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0BD2-88D6-4E25-BBBB-2039E18B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B2D9-8126-459E-8349-C4B00E41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72E7-19B0-469C-AEF5-A5EF0FAF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439DC-BC9B-4A7A-9F0D-D191BF2FE27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1A33C-A354-492B-BE35-1503F15226F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reenmama.ru/image_show.html?url=images/2007-09/24/1190611257-73783337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14240" y="10000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осметика: 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люсы и минус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428840" y="428760"/>
            <a:ext cx="632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аевой эколого-биологический цент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5" descr="1"/>
          <p:cNvPicPr/>
          <p:nvPr/>
        </p:nvPicPr>
        <p:blipFill>
          <a:blip r:embed="rId1"/>
          <a:stretch/>
        </p:blipFill>
        <p:spPr>
          <a:xfrm>
            <a:off x="3286080" y="2786040"/>
            <a:ext cx="3286080" cy="32860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3500280" y="61437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мь 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красот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9286920" cy="87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98720" indent="-19872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ирная подводка зрительно уменьшает глаза и придаёт вашему лицу усталое выражение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4" descr="i[96]"/>
          <p:cNvPicPr/>
          <p:nvPr/>
        </p:nvPicPr>
        <p:blipFill>
          <a:blip r:embed="rId1"/>
          <a:stretch/>
        </p:blipFill>
        <p:spPr>
          <a:xfrm>
            <a:off x="6786720" y="1857240"/>
            <a:ext cx="2143080" cy="27673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0" y="2143080"/>
            <a:ext cx="68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бы макияж выглядел естественно, достаточно подчеркнуть одну деталь, например, глаза. Губы можно оставить нейтральными или наоборот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142920" y="4786200"/>
            <a:ext cx="900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пользуя макияж, следует учитывать его назначение и возраст. Надо соблюдать меру, помнить о том, что большой слой красок не придает красоты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7120" y="-2145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здоровье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142920" y="1581120"/>
            <a:ext cx="850104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 год в женский организм поступает до 2,5 кг косметики. Часто это приносит  не пользу, а серьезный вред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214200" y="928800"/>
            <a:ext cx="22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омни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785880" y="3286080"/>
            <a:ext cx="835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сроченные средства могут таить в себе угрозу занесения инфекции и раздражения кож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214200" y="4714920"/>
            <a:ext cx="85345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ные считают, что некоторые искусственные компоненты косметических средств, попадая в организм, могут даже спровоцировать развитие онкологических заболевани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8760" y="-2145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здоровье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142920" y="1571760"/>
            <a:ext cx="6143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мывайся перед сном: косметика закупоривает поры кожи и не дает коже дышать. Это приводит к появлению прыщей, отечности, землистому цвету лица и воспаления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142920" y="461160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обенно осторожными следует быть с натуральной косметикой, т.к. она не содержит консервантов и быстрее подвергается порче. При первых симптомах раздражения ее использование необходимо прекратит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12" descr="1190611191-56955996"/>
          <p:cNvPicPr/>
          <p:nvPr/>
        </p:nvPicPr>
        <p:blipFill>
          <a:blip r:embed="rId1"/>
          <a:stretch/>
        </p:blipFill>
        <p:spPr>
          <a:xfrm>
            <a:off x="6000840" y="2214720"/>
            <a:ext cx="2958840" cy="2158920"/>
          </a:xfrm>
          <a:prstGeom prst="rect">
            <a:avLst/>
          </a:prstGeom>
          <a:ln w="0">
            <a:noFill/>
          </a:ln>
        </p:spPr>
      </p:pic>
      <p:sp>
        <p:nvSpPr>
          <p:cNvPr id="153" name="TextBox 12"/>
          <p:cNvSpPr/>
          <p:nvPr/>
        </p:nvSpPr>
        <p:spPr>
          <a:xfrm>
            <a:off x="214200" y="857160"/>
            <a:ext cx="292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мн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38512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природ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5" name="Picture 7" descr="знак1"/>
          <p:cNvPicPr/>
          <p:nvPr/>
        </p:nvPicPr>
        <p:blipFill>
          <a:blip r:embed="rId1"/>
          <a:srcRect l="34924" t="36020" r="36848" b="41768"/>
          <a:stretch/>
        </p:blipFill>
        <p:spPr>
          <a:xfrm>
            <a:off x="357120" y="2143080"/>
            <a:ext cx="2716200" cy="20718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9"/>
          <p:cNvSpPr/>
          <p:nvPr/>
        </p:nvSpPr>
        <p:spPr>
          <a:xfrm>
            <a:off x="428760" y="1000080"/>
            <a:ext cx="871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выборе косметики обрати внимание на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знаки упаков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3500280" y="2500200"/>
            <a:ext cx="51753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дукция не тестируется на животны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11" descr="знак2"/>
          <p:cNvPicPr/>
          <p:nvPr/>
        </p:nvPicPr>
        <p:blipFill>
          <a:blip r:embed="rId2"/>
          <a:srcRect l="26750" t="36069" r="26822" b="36167"/>
          <a:stretch/>
        </p:blipFill>
        <p:spPr>
          <a:xfrm>
            <a:off x="5572080" y="3786120"/>
            <a:ext cx="3154320" cy="27828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2"/>
          <p:cNvSpPr/>
          <p:nvPr/>
        </p:nvSpPr>
        <p:spPr>
          <a:xfrm>
            <a:off x="285840" y="5500800"/>
            <a:ext cx="421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паковки могут быть переработа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природ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356920" y="1484280"/>
            <a:ext cx="6247080" cy="35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13" descr="знак3"/>
          <p:cNvPicPr/>
          <p:nvPr/>
        </p:nvPicPr>
        <p:blipFill>
          <a:blip r:embed="rId1"/>
          <a:srcRect l="27720" t="34949" r="29838" b="37701"/>
          <a:stretch/>
        </p:blipFill>
        <p:spPr>
          <a:xfrm>
            <a:off x="357120" y="1285920"/>
            <a:ext cx="2838600" cy="269712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6"/>
          <p:cNvSpPr/>
          <p:nvPr/>
        </p:nvSpPr>
        <p:spPr>
          <a:xfrm>
            <a:off x="3429000" y="1285920"/>
            <a:ext cx="3857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пользованы натуральные ингредиен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15" descr="знак5"/>
          <p:cNvPicPr/>
          <p:nvPr/>
        </p:nvPicPr>
        <p:blipFill>
          <a:blip r:embed="rId2"/>
          <a:srcRect l="23753" t="27730" r="30413" b="33259"/>
          <a:stretch/>
        </p:blipFill>
        <p:spPr>
          <a:xfrm>
            <a:off x="5786280" y="3429000"/>
            <a:ext cx="3143520" cy="314316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оугольник 10"/>
          <p:cNvSpPr/>
          <p:nvPr/>
        </p:nvSpPr>
        <p:spPr>
          <a:xfrm>
            <a:off x="1857240" y="5500800"/>
            <a:ext cx="392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 разрушают озоновый сл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0040" y="257148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расота любой ценой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Что такое косметика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03640" y="2781000"/>
            <a:ext cx="345600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редства для ухода за кожей, волосами, зубами и ногтями (крем, лосьон, пудра, шампунь и т. п.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Text Box 4" descr=""/>
          <p:cNvPicPr/>
          <p:nvPr/>
        </p:nvPicPr>
        <p:blipFill>
          <a:blip r:embed="rId1"/>
          <a:stretch/>
        </p:blipFill>
        <p:spPr>
          <a:xfrm>
            <a:off x="981000" y="1316160"/>
            <a:ext cx="6639120" cy="10555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6"/>
          <p:cNvSpPr/>
          <p:nvPr/>
        </p:nvSpPr>
        <p:spPr>
          <a:xfrm>
            <a:off x="611280" y="2924280"/>
            <a:ext cx="302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ние о средствах и методах улучшения внешности челове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7"/>
          <p:cNvSpPr/>
          <p:nvPr/>
        </p:nvSpPr>
        <p:spPr>
          <a:xfrm>
            <a:off x="4500720" y="2421000"/>
            <a:ext cx="792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 flipH="1">
            <a:off x="2411280" y="2421000"/>
            <a:ext cx="648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9" descr="1190610957-aog50798"/>
          <p:cNvPicPr/>
          <p:nvPr/>
        </p:nvPicPr>
        <p:blipFill>
          <a:blip r:embed="rId2"/>
          <a:stretch/>
        </p:blipFill>
        <p:spPr>
          <a:xfrm>
            <a:off x="3059280" y="3573360"/>
            <a:ext cx="196200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История космети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377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just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щё древние египтяне, римляне, арабы подкрашивали щёки, ресницы, веки, завивали волосы, использовали благовонные масла, заменяющие дух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just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России примерно лет сто назад женщины коптили мыло на свечке и красили этой копотью ресницы, натирали щеки свекольным соком, а чтобы губы были красными - мазали их жгучим перце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just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учное развитие косметики началось в 19 век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5840" y="-2145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Виды косметики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Схема 8" descr=""/>
          <p:cNvPicPr/>
          <p:nvPr/>
        </p:nvPicPr>
        <p:blipFill>
          <a:blip r:embed="rId1"/>
          <a:stretch/>
        </p:blipFill>
        <p:spPr>
          <a:xfrm>
            <a:off x="1609560" y="993600"/>
            <a:ext cx="6077160" cy="27734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5"/>
          <p:cNvSpPr/>
          <p:nvPr/>
        </p:nvSpPr>
        <p:spPr>
          <a:xfrm>
            <a:off x="357120" y="4000680"/>
            <a:ext cx="385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дачи : профилактика и лечение заболеваний и косметических недостатков кожи, волос, уход за ногтями и полостью рт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4714920" y="3929040"/>
            <a:ext cx="417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дачи: косметическими средствами сделать менее заметными или скрыть некоторые дефекты внешности, оттенить отдельные черты лиц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Виды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косметической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продукции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901600" y="4820760"/>
            <a:ext cx="6242040" cy="18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удры, губные помады, грим, карандаши для бровей, век, тушь для ресниц, румяна, лаки для ногтей и волос, краски и восстановители для волос, бриолины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214200" y="1857240"/>
            <a:ext cx="303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игиениче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285840" y="2643120"/>
            <a:ext cx="25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ечеб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6"/>
          <p:cNvSpPr/>
          <p:nvPr/>
        </p:nvSpPr>
        <p:spPr>
          <a:xfrm>
            <a:off x="285840" y="3429000"/>
            <a:ext cx="38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филактиче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285840" y="5286240"/>
            <a:ext cx="357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екоратив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8"/>
          <p:cNvSpPr/>
          <p:nvPr/>
        </p:nvSpPr>
        <p:spPr>
          <a:xfrm>
            <a:off x="3929040" y="1785960"/>
            <a:ext cx="4967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сметические средства по уходу за зубами (зубные пасты, порошки), ртом (жидкость для полоскания рта), кожей лица, головы и тела (кремы, лосьоны, мыла), средства от пота (тальк и др., освежающие лосьоны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равила выбора косметики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85840" y="1428480"/>
            <a:ext cx="88581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Подбирайте косметические средства, соответствующие типу вашей кож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428760" y="2428920"/>
            <a:ext cx="8715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Пользуйтесь средствами для        своей      возрастной категор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3500280" y="3571920"/>
            <a:ext cx="5643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Выбирайте средства в соответствии с индивидуальной чувствительностью своей кожи, не забывайте про аллерги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11" descr="женщин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7040" y="4071960"/>
            <a:ext cx="29070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равила выбора косметики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47640" y="1628640"/>
            <a:ext cx="729792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476360" y="4221000"/>
            <a:ext cx="390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285840" y="1433160"/>
            <a:ext cx="86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Обязательно проверяйте срок годности косметических средст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285840" y="2714760"/>
            <a:ext cx="885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 Приобретайте косметику в специально предназначенных для этого местах. Никаких рынков или  подземных переходов метро!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428760" y="4714920"/>
            <a:ext cx="857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. Прежде чем покупать косметику новой фирмы, узнайте о ней как можно больше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красот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214200" y="1214280"/>
            <a:ext cx="8643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Сегодня существует множество средств для создания красоты. Необходимо лишь знать чувство меры и уметь правильно использовать и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285840" y="3786120"/>
            <a:ext cx="8572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 нанесении макияжа стоит учитывать цвет кожи, а также эффект, которого вы хотите добитьс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красот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85840" y="1143000"/>
            <a:ext cx="52862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льзя злоупотреблять тональным кремом, он  должен быть незаметным на лиц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лишком светлая основа придаёт лицу неестественную бледность и усталост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13" descr="1190611338-dv1887011"/>
          <p:cNvPicPr/>
          <p:nvPr/>
        </p:nvPicPr>
        <p:blipFill>
          <a:blip r:embed="rId1"/>
          <a:stretch/>
        </p:blipFill>
        <p:spPr>
          <a:xfrm>
            <a:off x="5572080" y="1571760"/>
            <a:ext cx="318132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3T19:43:45Z</dcterms:created>
  <dc:creator>SSG</dc:creator>
  <dc:description/>
  <dc:language>en-US</dc:language>
  <cp:lastModifiedBy>Пользователь</cp:lastModifiedBy>
  <dcterms:modified xsi:type="dcterms:W3CDTF">2008-11-14T05:52:59Z</dcterms:modified>
  <cp:revision>57</cp:revision>
  <dc:subject/>
  <dc:title>Красота не любой ценой</dc:title>
</cp:coreProperties>
</file>